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64516"/>
        <c:axId val="79889067"/>
      </c:barChart>
      <c:catAx>
        <c:axId val="42664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89067"/>
        <c:crosses val="autoZero"/>
        <c:auto val="1"/>
        <c:lblAlgn val="ctr"/>
        <c:lblOffset val="100"/>
        <c:noMultiLvlLbl val="0"/>
      </c:catAx>
      <c:valAx>
        <c:axId val="79889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64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94E-E4DB-468D-A32A-5C760591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020-C8EA-41AD-A830-07D79686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B78-0D76-4903-B196-B37CCBB0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7F7-D98B-4E50-8139-C22D9D9B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D2A-F4C5-4DB8-AA21-C70F13AD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B8B-DD19-42C9-9FC6-6897CD75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3E4-7F09-4AA4-9814-F166E47F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309-EA39-48D3-A7AD-736C2EF8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5BC-0302-45F7-843E-039142C7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D95-AE3A-4308-AEEC-35602BE9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3A4-B2DC-49E1-BCD1-1C9D2135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AF1-619C-4CA2-A618-15E69600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69746-5421-4BA4-97E7-0D42A1239F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