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21681"/>
        <c:axId val="28121703"/>
      </c:barChart>
      <c:catAx>
        <c:axId val="46421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21703"/>
        <c:crosses val="autoZero"/>
        <c:auto val="1"/>
        <c:lblAlgn val="ctr"/>
        <c:lblOffset val="100"/>
        <c:noMultiLvlLbl val="0"/>
      </c:catAx>
      <c:valAx>
        <c:axId val="28121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1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882-FC46-4CC8-832F-DEC11A74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091-4173-43AF-9C6D-072E77C3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4C2-63A0-4E1B-88FA-84DC968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939-75AB-4F01-967B-6A75BEDA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97E-25B6-4590-81FF-6BC4BD51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BF4-5D3B-4A44-BF50-0CDDAD0F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0F5-C176-4137-9209-A548932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341-1440-4F86-A706-62BB8B4F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ED8-8B96-4758-A8C0-28538142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75D-CE20-4B98-86CD-BE57E85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A0C-3259-4F53-84EC-2D2EE040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772-7CF8-40CB-B068-906C20E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9F8AF-CF0C-421D-99D6-0ECB84057E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