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32723"/>
        <c:axId val="99344507"/>
      </c:barChart>
      <c:catAx>
        <c:axId val="20732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44507"/>
        <c:crosses val="autoZero"/>
        <c:auto val="1"/>
        <c:lblAlgn val="ctr"/>
        <c:lblOffset val="100"/>
        <c:noMultiLvlLbl val="0"/>
      </c:catAx>
      <c:valAx>
        <c:axId val="993445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32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432-04C8-49DF-A6FE-3C42177A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A34-2CA5-4037-8DAF-28C99E52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59B-68EE-4CD5-8E55-21D4DFFE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92D-0F7F-48E1-B981-62E057A3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86E6-2C20-47D5-89F5-45A17823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FC7-1DD3-4844-BA0F-73DE4DB7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78F2-F81C-487F-A514-91F4817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899-15D9-4F1A-990D-66B2C263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E898-7B36-4284-BE75-316F5516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F6B-B237-408B-9147-94F71E8C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C4C-2CD0-4462-91F0-5FE0903A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9773-565A-4FEB-9E7C-AB7C5E8A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E4339-3C51-4C47-8629-AA14BC531D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