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990464"/>
        <c:axId val="89201298"/>
      </c:barChart>
      <c:catAx>
        <c:axId val="709904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201298"/>
        <c:crosses val="autoZero"/>
        <c:auto val="1"/>
        <c:lblAlgn val="ctr"/>
        <c:lblOffset val="100"/>
        <c:noMultiLvlLbl val="0"/>
      </c:catAx>
      <c:valAx>
        <c:axId val="892012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9904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CFB-6274-4779-AFA8-DB07433FA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ECC-EC89-46C5-93BB-9727DBE10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1834-184A-4AD3-B336-F4FFAE903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53A6-B734-4495-8181-63D60A9D1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67EA-A875-4969-95EA-ED533198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9BE-A5FE-4333-B24E-9F8A9B3D3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1B42-C6B8-44B2-9EDC-D77615D7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4A10-32EC-40FD-9A15-70E97F42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24CA-A765-4A27-B91D-D7965F38E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1BD6-E926-4A52-AC1D-CE2C4E4D4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F28-83F0-457D-B3A1-F61BB48B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F0AA-5591-4A7C-96C3-43472B06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D6964A-9624-4A53-8367-9EA6F467839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