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489080"/>
        <c:axId val="83969744"/>
      </c:barChart>
      <c:catAx>
        <c:axId val="664890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969744"/>
        <c:crosses val="autoZero"/>
        <c:auto val="1"/>
        <c:lblAlgn val="ctr"/>
        <c:lblOffset val="100"/>
        <c:noMultiLvlLbl val="0"/>
      </c:catAx>
      <c:valAx>
        <c:axId val="839697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890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A167-F507-4E5F-9D4B-A6A21C441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CFFD-269F-48D2-80E8-89276715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8E4F-D7AA-4847-8282-759EAB40B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6B99-8DCD-430E-8008-B38614FEF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B01E-FD4D-4D20-839E-0FA93B18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4896-9AB9-4AD8-8CC6-382A5BE5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525C-301A-47EB-9BA6-2E693339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584D-D86B-4410-9FEF-3A4AF97F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6183-058E-4E5B-BDE9-1139C1A7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C4B6-9499-4F2D-B05E-94D210D7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70DF-34DD-470F-BF92-11C7E539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CE67-D5FD-407D-9F8B-6613F9A0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A70E0-DA18-49FE-A8C6-290E033C0F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