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246877"/>
        <c:axId val="49773611"/>
      </c:barChart>
      <c:catAx>
        <c:axId val="902468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73611"/>
        <c:crosses val="autoZero"/>
        <c:auto val="1"/>
        <c:lblAlgn val="ctr"/>
        <c:lblOffset val="100"/>
        <c:noMultiLvlLbl val="0"/>
      </c:catAx>
      <c:valAx>
        <c:axId val="497736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468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16CD-D647-495E-8BB7-7B8956F9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050C-D5A4-426B-A00A-0B60AB59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9ED6-FBDB-490F-9C8C-9BD70B64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1D46-916A-4615-A458-07858869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2E3B-FA3D-4031-8DED-1FF41581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2A4C-44B1-41D9-97A1-067D17E0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0A8F-4119-4BBD-B6B9-E96C5D3D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F96F-3AFE-47F9-A97C-823C07FA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2021-74D3-4EFB-BE53-727BD459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7171-3D78-4376-B817-60273221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0C6C-B535-40D6-92C0-3D89D5DF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6B56-00A5-42AA-8D61-DC1E511D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0674F-3789-48E4-9C7A-F1EC4981D0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