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31512"/>
        <c:axId val="41067261"/>
      </c:barChart>
      <c:catAx>
        <c:axId val="812315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67261"/>
        <c:crosses val="autoZero"/>
        <c:auto val="1"/>
        <c:lblAlgn val="ctr"/>
        <c:lblOffset val="100"/>
        <c:noMultiLvlLbl val="0"/>
      </c:catAx>
      <c:valAx>
        <c:axId val="41067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315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CAD-28EC-457A-9628-43CCDAD6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A2F-015D-4437-8A36-D275FD3C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FCB2-3399-4A94-A23D-E311CE6B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EB4-2156-40EC-A297-D64CA548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16B-20F1-46F3-B360-C5C0CD50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D7E6-B70E-4211-A604-5DC08FE8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819-4FD0-4D2E-AD36-544173FC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B55E-00FA-4CD6-859B-43A95C05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7308-C2F1-4FFB-9693-EE74EB14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EB34-4658-422A-84A0-C7FE95A6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5729-433C-4BCB-A42E-DEC77C5E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F9C-2975-4915-9FDB-CAAA7555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0B682-7010-4469-A873-3073C34CA6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