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59552"/>
        <c:axId val="1239930"/>
      </c:barChart>
      <c:catAx>
        <c:axId val="27859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9930"/>
        <c:crosses val="autoZero"/>
        <c:auto val="1"/>
        <c:lblAlgn val="ctr"/>
        <c:lblOffset val="100"/>
        <c:noMultiLvlLbl val="0"/>
      </c:catAx>
      <c:valAx>
        <c:axId val="1239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59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5D2-4D35-4BF4-82F4-B5525D85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966-5D84-4498-B292-D90B432B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05E-49C9-4045-878B-93B0344D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2E9-6B5F-4F39-93D2-0E086336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BB2-3F91-449F-BFCB-DC2411DB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5FA-B7A6-4A44-821F-18FEDB2B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FD9-3299-4789-911B-4A3BA1F6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8F9-A006-4B0A-85ED-C839A559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F6E-F663-4F8A-92DC-2847AF0E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E38-5560-4DE0-A32B-CC76861F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BF1-4043-42B3-B256-22D6095F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B02-3592-4632-8D24-6DA06EFF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78E17-87BE-4680-AB82-7059312AC9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