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13410"/>
        <c:axId val="87280749"/>
      </c:barChart>
      <c:catAx>
        <c:axId val="47213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80749"/>
        <c:crosses val="autoZero"/>
        <c:auto val="1"/>
        <c:lblAlgn val="ctr"/>
        <c:lblOffset val="100"/>
        <c:noMultiLvlLbl val="0"/>
      </c:catAx>
      <c:valAx>
        <c:axId val="87280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3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217-887C-4FA3-BD96-C96AC78F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B95-61CF-4684-BEB2-8F02DD2D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05B-40A3-4B79-864B-C76F8DD6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199-0225-409D-81A9-CC4DD1D4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EA9-2780-44CF-A98A-85D158E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6C9-81B8-4E12-A171-19A0454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C15-3169-4EE3-A679-FEE24083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839-F47A-4872-9B28-295F896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BC9-735F-40DC-858B-7A451B9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2B7-B3AD-43CA-9D6B-10F4BB9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BFB-D9FA-42C2-9F3F-4EAC71A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3A4-C978-498A-81ED-9C126C6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AD191-34FA-413B-84A6-E56065E7BB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