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94614"/>
        <c:axId val="98552024"/>
      </c:barChart>
      <c:catAx>
        <c:axId val="44794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2024"/>
        <c:crosses val="autoZero"/>
        <c:auto val="1"/>
        <c:lblAlgn val="ctr"/>
        <c:lblOffset val="100"/>
        <c:noMultiLvlLbl val="0"/>
      </c:catAx>
      <c:valAx>
        <c:axId val="98552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94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225-769A-43A4-AF79-7044259C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DC3-0191-4919-A9A7-81FA1AB0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250-1989-4466-84B1-26451826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F2D-4FA5-4589-B8EC-8CDC6A0C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9A7-8D5D-4A7F-A1F1-248E86B6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20A-A5DC-4105-8398-A61C8ABA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A29-D529-46D5-9FDE-5EFB3A9B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F81-FC8F-416A-9490-198AAC30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F3E-83B6-4EF5-A59E-CACF32AD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14A-AF26-4DDD-8095-1C91AF1C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34F-FCEF-4649-9242-07F263AE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186-1081-4C07-A8A6-DC00B827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FA641-16A9-4F41-B7F3-7EA41D28B2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