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98484"/>
        <c:axId val="90451381"/>
      </c:barChart>
      <c:catAx>
        <c:axId val="54498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1381"/>
        <c:crosses val="autoZero"/>
        <c:auto val="1"/>
        <c:lblAlgn val="ctr"/>
        <c:lblOffset val="100"/>
        <c:noMultiLvlLbl val="0"/>
      </c:catAx>
      <c:valAx>
        <c:axId val="90451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98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673-F6E7-4847-8ED3-76BC3196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211-D28B-4B18-81F3-6693820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C72-915F-48CC-8544-72AF0A41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F26-F090-4965-B28E-3EE98366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53D-8DB5-4A44-B0DE-B35121C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176-00AB-45C1-A103-0FE7797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B06-F983-4AC7-8DB5-97948879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C93-DDE7-450A-9715-457C95AB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508-7A3B-4A7E-B809-C4C1852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E06-4E5A-4C8C-B7AB-4F9BE63F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471-06C3-4768-9FAD-AEC5B19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9D5-C4C1-46FD-A8A0-02DBAC0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E74F2-1F1B-43AC-A1ED-A5992AACCF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