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60338"/>
        <c:axId val="50570659"/>
      </c:barChart>
      <c:catAx>
        <c:axId val="36860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70659"/>
        <c:crosses val="autoZero"/>
        <c:auto val="1"/>
        <c:lblAlgn val="ctr"/>
        <c:lblOffset val="100"/>
        <c:noMultiLvlLbl val="0"/>
      </c:catAx>
      <c:valAx>
        <c:axId val="50570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0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4B4-EC0A-4275-A5BB-6B6AF7E5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875-6F6C-4FB1-8A1B-BA835D0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A9C-7038-4135-9234-2B62E978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974-ECD2-4EF4-9FE0-6708955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DE5-766D-4AC8-9F61-A15691C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B7C-35E9-4D7A-A545-A8D1402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537-4786-4D56-8A53-B351E2F8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791-5362-46BF-9766-D312D788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2D4-0443-413B-AAD2-481DACF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D0A-6624-4C4F-A203-3BFBF60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C5F-D13A-409B-AC63-EA44C51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043-9468-413B-9173-7694CA9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76D8C-15BA-4DCB-9C5C-3C4D94AA4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