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31646"/>
        <c:axId val="6805334"/>
      </c:barChart>
      <c:catAx>
        <c:axId val="11231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334"/>
        <c:crosses val="autoZero"/>
        <c:auto val="1"/>
        <c:lblAlgn val="ctr"/>
        <c:lblOffset val="100"/>
        <c:noMultiLvlLbl val="0"/>
      </c:catAx>
      <c:valAx>
        <c:axId val="6805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1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87F-7FD3-4EC1-8C07-8B9BEB01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7C1-D15F-46F6-92A9-C5190235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162-55A1-4EDE-AD22-2C7DE5DF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BB5-334E-4CC4-AFF9-AF5B26F7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32E-60BC-45E3-BE81-E505F26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12C-DA59-4902-B953-6FE4E27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F3E-AB85-4041-99C8-6A446F0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3C6-56B5-401A-BBBE-8F6041B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D91-06AC-418A-B155-1508F4D9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BC6-6811-4FF3-A43E-E138E4B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D16-24F3-4DA9-B9A5-F27E300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64D-836A-4F43-B43B-DB1C0F3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68AC9-DAF0-46B1-948C-FCC3BA4E05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