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49058"/>
        <c:axId val="22074542"/>
      </c:barChart>
      <c:catAx>
        <c:axId val="2144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74542"/>
        <c:crosses val="autoZero"/>
        <c:auto val="1"/>
        <c:lblAlgn val="ctr"/>
        <c:lblOffset val="100"/>
        <c:noMultiLvlLbl val="0"/>
      </c:catAx>
      <c:valAx>
        <c:axId val="22074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4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342-F23C-4F7E-AB30-037C1097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FB7-038C-4909-AFF6-10451E9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473-A266-48A4-B397-AAEB06BD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AB6-32F9-466E-AFA3-E0FDDECF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023-000B-4E08-AC85-659CBCE7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89C-8D2D-456A-87C8-3B495CB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685-7231-4D5E-907B-59877C3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E08-CE85-4825-A739-79E65CF5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174-041D-406B-9C94-4FC0357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3EA-9BBA-41A8-A1E1-E53CC56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820-E09F-45A8-A03B-7B24CFC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E98-4A18-403E-BD0E-7B2E037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F5A35-8488-406F-91DF-A99E73F45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