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67979"/>
        <c:axId val="7648080"/>
      </c:barChart>
      <c:catAx>
        <c:axId val="63679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48080"/>
        <c:crosses val="autoZero"/>
        <c:auto val="1"/>
        <c:lblAlgn val="ctr"/>
        <c:lblOffset val="100"/>
        <c:noMultiLvlLbl val="0"/>
      </c:catAx>
      <c:valAx>
        <c:axId val="76480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679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582B-BF50-4C79-AAD4-0F7640C42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8858-6C2F-4363-A8E2-6006EE6A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7CBA-82E7-47B9-915C-946CB0D51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3403-431B-4106-9C69-69BA789EF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8741-7AE5-475F-AD72-DA3A356B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B38B-83BB-4560-84B6-F7F4DE48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82AA-32D4-40A1-992B-43C9427B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CD5A-60BB-411A-9976-D169AEE5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2A8D-3F1B-4F47-9C1B-55BFCD00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7C44-ABCC-4A36-B800-72ED8D3B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18D4-3F97-4084-A6DF-F19F6188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4C55-C164-49F3-BC6F-5419548C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9956D8-7B63-4438-BD56-915FD12B4C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