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819684"/>
        <c:axId val="81463034"/>
      </c:barChart>
      <c:catAx>
        <c:axId val="79819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63034"/>
        <c:crosses val="autoZero"/>
        <c:auto val="1"/>
        <c:lblAlgn val="ctr"/>
        <c:lblOffset val="100"/>
        <c:noMultiLvlLbl val="0"/>
      </c:catAx>
      <c:valAx>
        <c:axId val="814630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19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35D8-902B-4C9A-913A-39363C10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097E-2BB2-40C6-93A3-676F2389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EF15-DBAB-44F6-AFE7-0CBA4359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A266-8190-4618-A3B0-505892F8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981-7779-4F9C-BEFA-EA4A46C7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222-F0D9-420B-935E-F911D672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5323-F57F-4860-8A63-04EF7903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5EA-880D-4FFE-9CE0-016E2700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6FE2-5521-4307-AB92-F8137D54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2C3-B457-4896-B898-AAFBBEFC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C14-E692-4FDC-8CEE-C8EC200F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1281-D6F8-4D98-A6ED-3140BBEE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C1191-63E2-472A-BE79-0B4A27C59A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