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42436"/>
        <c:axId val="56782217"/>
      </c:barChart>
      <c:catAx>
        <c:axId val="40042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82217"/>
        <c:crosses val="autoZero"/>
        <c:auto val="1"/>
        <c:lblAlgn val="ctr"/>
        <c:lblOffset val="100"/>
        <c:noMultiLvlLbl val="0"/>
      </c:catAx>
      <c:valAx>
        <c:axId val="56782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42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8C4-965B-4F4B-BAC7-C3D504C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684-FE4C-42E7-9A4F-99CD49BF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8BC-CDC9-4260-BBFA-E574D079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D35-C8AF-438F-BF92-49331F11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133-F41D-4133-BFBB-85284ABF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0DC-15E0-4E25-96E5-00B579E6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F6B-601D-493E-9442-7B57B3B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222-E8CA-4543-AD76-83D02812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9A1-0595-4AEB-A53A-1A24930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CB5-522E-4BFC-9EA5-6C9BF3C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90A-77DD-4C8D-8CAA-C00A7E6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055-EF95-4327-BD82-B38593A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2E234-2B80-461E-919F-B2D7C366AC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