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224909"/>
        <c:axId val="2976049"/>
      </c:barChart>
      <c:catAx>
        <c:axId val="992249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6049"/>
        <c:crosses val="autoZero"/>
        <c:auto val="1"/>
        <c:lblAlgn val="ctr"/>
        <c:lblOffset val="100"/>
        <c:noMultiLvlLbl val="0"/>
      </c:catAx>
      <c:valAx>
        <c:axId val="29760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249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E651-DC7C-4F17-A405-EFD29E2F4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A8C0-5690-4BBF-BA60-33FCE88A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FA38-BBE0-4358-8CE7-3DE158909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2134-3418-40A3-9B25-F5C663AD3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7B1B-60DB-4EA1-85AF-C6B28D0A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C175-F06A-401C-9EE8-6BE34434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0194-1F92-4996-8C5F-BE8DDFDC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C3C2-5DBD-4B09-A962-96C52CE7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F586-703A-461A-9FE5-CF4523F9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7604-E314-4BB7-9956-789FCEDE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A2AD-0B27-408D-9700-A07A0DEB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971F-58F6-40EF-AC72-2C3E6650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E879C-441B-4A46-817B-93F7DA43A3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