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43104"/>
        <c:axId val="90372138"/>
      </c:barChart>
      <c:catAx>
        <c:axId val="84443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72138"/>
        <c:crosses val="autoZero"/>
        <c:auto val="1"/>
        <c:lblAlgn val="ctr"/>
        <c:lblOffset val="100"/>
        <c:noMultiLvlLbl val="0"/>
      </c:catAx>
      <c:valAx>
        <c:axId val="90372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43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813-2D4A-4DC0-9261-42C620AF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96A-1C82-4852-8D4D-DDA8F0C4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335-A573-4257-8D71-FBA5AB39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AA7-C005-4685-8A6B-2675A4CB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D1D-EB23-4A4B-B345-DF348626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326-5492-4472-85C1-13965EE9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DA5-1731-4242-BE92-A975BAFF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700-7BA6-4CC1-8067-0FB2923E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F06-D068-4EEC-8C0C-003A8202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922-F85D-4D8A-8A5A-EB50702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3F7-B48D-433A-BCD6-7B61F656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512-8483-4312-8625-E3ED1C98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EFA51-3C29-4645-8772-4D0F20BE88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