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916668"/>
        <c:axId val="60808403"/>
      </c:barChart>
      <c:catAx>
        <c:axId val="709166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08403"/>
        <c:crosses val="autoZero"/>
        <c:auto val="1"/>
        <c:lblAlgn val="ctr"/>
        <c:lblOffset val="100"/>
        <c:noMultiLvlLbl val="0"/>
      </c:catAx>
      <c:valAx>
        <c:axId val="608084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166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811F-D871-439B-92CC-98CF478F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6BE4-3EF3-468A-859F-606648E2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87ED-1B00-43E8-B9A5-6F2CD392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CE15-2403-4CB8-8B6C-686EC48F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ECCB-5396-4C95-8426-578365E1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DEA3-74B6-4A71-86EB-5C260C57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82A5-B998-4B34-9053-8A5CA4D8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D740-6B6C-4D37-8F2D-E51C3F3D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7B18-3481-4D2A-AF8B-5D0632E4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D381-193C-4BBC-9781-5F8E6797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91F0-532D-404A-B257-A58FC0BD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3811-410A-4839-8663-2652C2D3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B5D62-98F8-4213-BEDB-94532E04F3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