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25613"/>
        <c:axId val="47212262"/>
      </c:barChart>
      <c:catAx>
        <c:axId val="49125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12262"/>
        <c:crosses val="autoZero"/>
        <c:auto val="1"/>
        <c:lblAlgn val="ctr"/>
        <c:lblOffset val="100"/>
        <c:noMultiLvlLbl val="0"/>
      </c:catAx>
      <c:valAx>
        <c:axId val="47212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25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363-874E-44D7-92D7-2D60A878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00A-6951-4633-B790-A457140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FE6-A9A1-4309-917D-91606959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1D6-2C60-4D91-936B-93AE407F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C0A-B546-4F24-9278-77B6668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C49-61B3-4A57-8FE6-4F43596C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E66-DE1F-41ED-A6E0-3B5684D6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941-6A74-485F-A38F-7652F5E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863-F35E-4259-B47B-EB3DAC9C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496-F534-45B1-8407-F5A4A3A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0EC-DCF8-4D15-9648-89D340D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863-5F46-4A13-AF4C-BDC58B12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1C927-BD0F-4FC7-A2CA-B68B8E54AE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