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96702"/>
        <c:axId val="74123751"/>
      </c:barChart>
      <c:catAx>
        <c:axId val="16596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3751"/>
        <c:crosses val="autoZero"/>
        <c:auto val="1"/>
        <c:lblAlgn val="ctr"/>
        <c:lblOffset val="100"/>
        <c:noMultiLvlLbl val="0"/>
      </c:catAx>
      <c:valAx>
        <c:axId val="74123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6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055-D8C8-4F5A-828E-531E45A5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938-AB26-4EB0-B142-E163138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2F0-D359-4A2D-B681-5CE2436C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3C2-8500-486C-8400-93313D94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679-3554-4024-9BAF-BF33C86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157-8528-4706-8169-4C21EF2C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31-D171-4A51-8B8E-6F58A69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BEC-3519-4C6C-B8EF-94A8195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89D-490B-4985-B969-24EB5DFC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426-6F57-4F2F-986E-3863045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255-A702-41E2-8AB1-304F5F9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581-9E61-4076-B7B3-8FA3643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69BD3-EE27-4257-A461-0025CE236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