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60225"/>
        <c:axId val="68796898"/>
      </c:barChart>
      <c:catAx>
        <c:axId val="40760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96898"/>
        <c:crosses val="autoZero"/>
        <c:auto val="1"/>
        <c:lblAlgn val="ctr"/>
        <c:lblOffset val="100"/>
        <c:noMultiLvlLbl val="0"/>
      </c:catAx>
      <c:valAx>
        <c:axId val="68796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0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241-92A2-42C2-8F50-4B510ED6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17F-B352-4A21-89F8-D1445BD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C98-6A6D-4075-A359-7856A598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643-FA0E-4B98-8958-09D0542C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83B-FF22-437D-9F20-12A65DC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A15-1138-49F8-9968-0B27D9D7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A9B-E0AF-4CB6-96EA-FE05F395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C0E-7A84-4045-87B9-2CB6F33A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CA4-8ED9-4E55-AE41-E2EDFEF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CB9-11FA-4918-A1C9-840990D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EB9-5568-4B37-8D52-D58222A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FA2-6D10-4A8E-9585-12EA167F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AA38E-4A52-436E-85FB-9062B7D882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