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3478411"/>
        <c:axId val="2885904"/>
      </c:barChart>
      <c:catAx>
        <c:axId val="3347841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85904"/>
        <c:crosses val="autoZero"/>
        <c:auto val="1"/>
        <c:lblAlgn val="ctr"/>
        <c:lblOffset val="100"/>
        <c:noMultiLvlLbl val="0"/>
      </c:catAx>
      <c:valAx>
        <c:axId val="288590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347841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3E2AA-16D9-4F79-B6CC-4DF3830A4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B8829-B04F-495E-8738-7B2A10F7F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1755C-B48C-4644-9527-333F9C41B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004EE-FC2C-4D69-A6AE-4AF60E920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26FB9-26E8-43D3-96E1-26EADD06D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CF1F2-2CD4-4817-B81E-ACDF0FD71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7B211-3D85-4E88-9433-E0B0F25AE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14C84-0052-416B-B718-A2235A2A0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8DB2E-18EE-4B4E-909C-C6897FB07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4D684-6226-4F49-9AB4-ED707AF11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A2815-13D4-4F47-B06F-534FBBCFA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1C539-A4C3-42F2-A4D1-91CF25D40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B8B5D0-0490-441A-BEEF-92AA336C272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