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3389"/>
        <c:axId val="78847663"/>
      </c:barChart>
      <c:catAx>
        <c:axId val="63433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47663"/>
        <c:crosses val="autoZero"/>
        <c:auto val="1"/>
        <c:lblAlgn val="ctr"/>
        <c:lblOffset val="100"/>
        <c:noMultiLvlLbl val="0"/>
      </c:catAx>
      <c:valAx>
        <c:axId val="78847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33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E59-AC59-40E5-89F1-A72E37D1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38FC-1ABB-423B-906C-CC809BC4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9B2A-8BB5-421B-BC70-23DBE08E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F9B4-4A9A-4DEF-A180-43C43601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023-5E41-4FFA-8C3F-0575E091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6CED-C945-4DDC-907A-E9B5B666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E888-30E4-4680-8E6D-3A8563C5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91F0-B200-4858-B395-AC92D7CF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101-DB58-40FF-BF33-F7CB5F40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7A04-7C96-4238-A9DB-1F338ABC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73A-8BB9-4E0D-922D-6C3C6E9B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BA0E-61BD-4304-9B60-4F23B878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EB72D-9A50-473A-A56F-51FEAA4852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