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81858"/>
        <c:axId val="725193"/>
      </c:barChart>
      <c:catAx>
        <c:axId val="40781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93"/>
        <c:crosses val="autoZero"/>
        <c:auto val="1"/>
        <c:lblAlgn val="ctr"/>
        <c:lblOffset val="100"/>
        <c:noMultiLvlLbl val="0"/>
      </c:catAx>
      <c:valAx>
        <c:axId val="725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1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A98-40FC-418A-A266-C15D56C8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6EC-AE92-433D-99DC-0A05762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223-0EE6-494B-AFA0-2CD389A7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8DD-D656-45AC-A15B-B23C7D60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530-60FB-41BB-AFF8-FD4838C2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0DC-493B-4B32-B448-0085AC5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C4B-52EA-49EC-B9A8-56F7991D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335-C56B-41A6-AD25-DD41A8CB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DE4-DC80-485F-8615-A74E5CE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380-F84D-4A3D-B2D6-1690560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04E-B7CF-4EE3-8B58-DCFF5A6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ADF-C359-46C0-99B1-118E0EF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8FF62-80BC-4B80-AEFE-A944DA4290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