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96217"/>
        <c:axId val="88400763"/>
      </c:barChart>
      <c:catAx>
        <c:axId val="66196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00763"/>
        <c:crosses val="autoZero"/>
        <c:auto val="1"/>
        <c:lblAlgn val="ctr"/>
        <c:lblOffset val="100"/>
        <c:noMultiLvlLbl val="0"/>
      </c:catAx>
      <c:valAx>
        <c:axId val="88400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96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C29-F961-4C82-9B87-98C322FB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653-7434-4596-B2C4-5F516D11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55FA-C046-4EC1-B567-E4E0D138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714-A730-4CFE-9EBB-D6341EAD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699-4D54-49E2-96C6-73B7ADBA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753-3A68-4F98-B0BA-B5E98DC6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246-3338-4F94-B13C-6C77F0E3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0B2-F4DF-41AB-A74C-AF961213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F0C-1616-4021-9CAD-4CD3A7F3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5A0-4EDE-4F69-8379-80B34E64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404-1C53-4F2C-93F0-8F48612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CE6-18AD-4776-AD2F-04CE5D67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038E8-B95F-4792-BBED-5897A8AEB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