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93242"/>
        <c:axId val="13870546"/>
      </c:barChart>
      <c:catAx>
        <c:axId val="18393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70546"/>
        <c:crosses val="autoZero"/>
        <c:auto val="1"/>
        <c:lblAlgn val="ctr"/>
        <c:lblOffset val="100"/>
        <c:noMultiLvlLbl val="0"/>
      </c:catAx>
      <c:valAx>
        <c:axId val="13870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93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616-879C-4031-BFF0-829C940F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5FD-1EB7-4D1B-B576-CF1394A7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238-D3AE-4FCF-AD9E-032C4965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FE1-209B-4254-AC56-2C9A0EEE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A81-214A-4EA6-8A34-C9D04199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DF1-FA5A-49BC-B87F-7E7F410F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1F3-B153-43A3-8395-3096E9CB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076-1BDE-484F-9520-90886CD9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CCD-A023-4F98-BB17-833F0D67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F2C-3613-400A-A171-E365AA42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E0F-D746-4DC0-B61B-0A8BCF3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FF5-F6C5-4FFA-905C-B839187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147B1-B753-4E6F-B2C5-D029353E5D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