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53175"/>
        <c:axId val="87059149"/>
      </c:barChart>
      <c:catAx>
        <c:axId val="83053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9149"/>
        <c:crosses val="autoZero"/>
        <c:auto val="1"/>
        <c:lblAlgn val="ctr"/>
        <c:lblOffset val="100"/>
        <c:noMultiLvlLbl val="0"/>
      </c:catAx>
      <c:valAx>
        <c:axId val="87059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53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398-64E3-495B-B3E5-F7C6043A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E32-4427-410A-9216-0E43E38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3D7-6729-4CD3-9E9E-686A20DB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BA8-4092-4A48-95B8-7C2A93A6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98C-E9F7-444C-9C92-06CB8C5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A00-12A6-4ED8-89B0-A8DED6A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16B-C743-4C97-995A-1B3CFEC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15F-9BD9-47BA-9671-9F7EAF05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896-3980-421C-97AE-7E9539E8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F5E-BE4F-4695-B1B8-23CC913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24F-6BC0-4F50-944C-32C0B16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135-8CF7-4215-85A5-91EB057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FF20-E9BB-483B-B86B-0F30E41702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