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91953"/>
        <c:axId val="93629640"/>
      </c:barChart>
      <c:catAx>
        <c:axId val="17891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29640"/>
        <c:crosses val="autoZero"/>
        <c:auto val="1"/>
        <c:lblAlgn val="ctr"/>
        <c:lblOffset val="100"/>
        <c:noMultiLvlLbl val="0"/>
      </c:catAx>
      <c:valAx>
        <c:axId val="93629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91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C7C-6956-4190-9C2F-7FFC4214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324-CBD9-4D0C-9C94-27CFD5E0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78A-CBAE-4004-A886-FBE8D642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F87-EC42-4A12-8F4C-C8687D86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049-5665-4879-9A98-9402D6C2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B2B-98E9-43DA-9DEB-18109C44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8E1-1CCA-4AAD-B39C-42516399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A77-2BAB-473F-BF24-15118A2D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119-5877-4953-843C-2397C2E3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931-C0B2-45E5-9CF1-2A8C64D7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4DC-40C0-4F98-A109-95C8D8DD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0A2-B50A-4326-B6F7-FBEF07EA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81D87-3091-4C6A-9CA1-2DF3F92281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