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15108"/>
        <c:axId val="35456588"/>
      </c:barChart>
      <c:catAx>
        <c:axId val="69715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56588"/>
        <c:crosses val="autoZero"/>
        <c:auto val="1"/>
        <c:lblAlgn val="ctr"/>
        <c:lblOffset val="100"/>
        <c:noMultiLvlLbl val="0"/>
      </c:catAx>
      <c:valAx>
        <c:axId val="35456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15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84E-F1B8-4A9C-BFBB-FF9A1989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FA2-1072-4832-8AB6-78713DF1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BA6-7E84-44D0-8379-1E003551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179-7E81-4EC4-86FF-A647D982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A57-197B-4A10-8331-EFD7005C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E5F-AD43-4033-8029-AD5EB500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F36-01B9-45D3-93C7-3CD93A63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FBB-9748-430B-AFEA-D3CF9196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9C1-D4E6-4C2A-A339-087C3B1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4D59-1EE9-4934-B993-7331F3C1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E7D-0BF0-471A-92DE-815F113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994-AF4D-4EE3-A1E5-0D11FE5C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41E6B-4B3C-4146-93FE-299942D39C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