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6108"/>
        <c:axId val="37647378"/>
      </c:barChart>
      <c:catAx>
        <c:axId val="131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7378"/>
        <c:crosses val="autoZero"/>
        <c:auto val="1"/>
        <c:lblAlgn val="ctr"/>
        <c:lblOffset val="100"/>
        <c:noMultiLvlLbl val="0"/>
      </c:catAx>
      <c:valAx>
        <c:axId val="37647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CFB-482B-479B-91A7-844AD7CF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23D-580B-4ABC-A7FC-1DF5FEF9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8C0-DBB6-4917-AA1A-57FB7443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6DB-953A-4DE5-9F77-607CE8B5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F22-A276-4499-8F18-A5F208F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6AF-9F95-497C-807B-C1635AAE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8AF-FA1C-4B18-9CB5-1AE118B3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229-1D5B-4FFE-86E7-FF73D73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1B6-22E4-4412-9A2A-778F1DDE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F99-823F-4889-A3E6-8AB037C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3F1-F14E-4BAE-8B7C-2E0BD11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C10-B133-4296-A9FB-C689490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6A896-44B0-4C92-B808-1A6C66308A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