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25910"/>
        <c:axId val="36424295"/>
      </c:barChart>
      <c:catAx>
        <c:axId val="74125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24295"/>
        <c:crosses val="autoZero"/>
        <c:auto val="1"/>
        <c:lblAlgn val="ctr"/>
        <c:lblOffset val="100"/>
        <c:noMultiLvlLbl val="0"/>
      </c:catAx>
      <c:valAx>
        <c:axId val="36424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25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C59-D671-4939-93C3-D3D72250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55A-6B8D-4984-9BB1-D7CF30FC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F88-2102-4095-9278-D6DF0ACD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B2C-E078-434A-A6C6-B8114D98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6A07-B307-4F65-90E6-C1B716D5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521-25E2-4505-B680-201B3855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98F-F056-4946-9A2B-DE6ED6E7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8E3-B29F-413A-B493-C5A24FA3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753-0C67-4811-97B8-EEC3CC20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DEC-D121-4172-9E55-DB9F0F5B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285-C316-4997-B2CF-E5B0EC47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1E4-C96A-45EE-9A34-18E2EAFB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FF803-2FE5-4E0C-A4AB-709350B17E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