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44675"/>
        <c:axId val="5741201"/>
      </c:barChart>
      <c:catAx>
        <c:axId val="25744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1201"/>
        <c:crosses val="autoZero"/>
        <c:auto val="1"/>
        <c:lblAlgn val="ctr"/>
        <c:lblOffset val="100"/>
        <c:noMultiLvlLbl val="0"/>
      </c:catAx>
      <c:valAx>
        <c:axId val="5741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44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3CF-AFEA-4CB7-94A5-153665AF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3CC-A6B0-4611-AAE0-ABD1FF36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6B0-BEF6-4B58-90C1-34DD1229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86A-EFF3-4197-9110-C4DD1CEB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198-92CC-47E0-9F05-8741B0D3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EED-68EC-4042-AAB9-28DD0494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A90-E776-41C8-AA23-E897D8A8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AC5-FB63-4471-8CD0-85B32BC4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6BB-2195-4DF3-9243-7C191E9A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E85-E98A-40D1-9425-887BDDB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933-25B2-44AD-A42D-1302239C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45C-8FDD-4831-AE2D-6E61FD0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A7DFD-1668-4635-872D-62EB1CC48B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