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49532"/>
        <c:axId val="1098439"/>
      </c:barChart>
      <c:catAx>
        <c:axId val="64849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8439"/>
        <c:crosses val="autoZero"/>
        <c:auto val="1"/>
        <c:lblAlgn val="ctr"/>
        <c:lblOffset val="100"/>
        <c:noMultiLvlLbl val="0"/>
      </c:catAx>
      <c:valAx>
        <c:axId val="1098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49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757-0149-497D-86D6-5D50FFA0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259-163E-498E-BEF4-2D1C763D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9D5-893E-472A-984C-D7084340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F20-BBBC-4E00-BE0A-3C2CEF25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2F6-9EFB-4B0C-B984-C5F0F8A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256-8300-47C6-85B9-5B59AA09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06E-754B-480D-AF23-E93CB5B8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DDD-05A3-4D20-A718-84DFA96B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F42-ED0E-428A-ACA8-61F3E39F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91B-D759-4738-ABC6-CA8C568F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6C7-5F5B-4898-80BE-C464A32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372-6AF3-4751-9279-095E3824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B3578-473D-404E-86C3-1FA42760A8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