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32220"/>
        <c:axId val="90804475"/>
      </c:barChart>
      <c:catAx>
        <c:axId val="30932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04475"/>
        <c:crosses val="autoZero"/>
        <c:auto val="1"/>
        <c:lblAlgn val="ctr"/>
        <c:lblOffset val="100"/>
        <c:noMultiLvlLbl val="0"/>
      </c:catAx>
      <c:valAx>
        <c:axId val="90804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32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563-2FCC-46C4-AECE-F3B4E372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10B-493B-481B-B75D-A5403F83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DA3-E293-437D-ADB1-0B27B49F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1B7-8717-441A-B309-32E2614B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189-1CC6-40E1-A5EB-A23EEAFA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01B-8D12-46A7-8326-37869B0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A6B-7412-47F1-B552-3CE9B102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FB2-CF93-48C8-89D6-8DC22570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34A-D95A-46BC-A78D-C9907D68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828-547F-4D9A-9F13-2E6529C9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762-9918-45A1-9626-3285D341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A5F-75D5-4E2B-89A5-DD544163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1D43-130E-474D-B5C0-C30C7648A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