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59579"/>
        <c:axId val="66536554"/>
      </c:barChart>
      <c:catAx>
        <c:axId val="97759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36554"/>
        <c:crosses val="autoZero"/>
        <c:auto val="1"/>
        <c:lblAlgn val="ctr"/>
        <c:lblOffset val="100"/>
        <c:noMultiLvlLbl val="0"/>
      </c:catAx>
      <c:valAx>
        <c:axId val="66536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59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C0E-F41D-45AC-B50B-B390195F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4CA-8056-478E-9736-9D91FC69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203-61AD-4EFD-9D88-C623893C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40C-EF37-45CE-A369-B5D67D9C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8B0-35CE-4982-9F93-5CD7CD02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FDE-E3C5-4B2E-843A-C7612F18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02A-D989-49BC-93BF-FDA3B9C6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BD5-B8F4-4F46-8F97-69361604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169-5673-4FF8-8198-1B868D8F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482-528C-428E-B14D-4AC29690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6DE-18A0-44DB-A3A5-7E6EA339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5FF-F06C-41AA-8E27-34126BA3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C2073-623E-4E44-A212-46ABAF9BC0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