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79895"/>
        <c:axId val="35874021"/>
      </c:barChart>
      <c:catAx>
        <c:axId val="44479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4021"/>
        <c:crosses val="autoZero"/>
        <c:auto val="1"/>
        <c:lblAlgn val="ctr"/>
        <c:lblOffset val="100"/>
        <c:noMultiLvlLbl val="0"/>
      </c:catAx>
      <c:valAx>
        <c:axId val="3587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79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579-50C7-4053-8F18-ABA6A065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2D3-8164-480D-B501-E36E6ECD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25D-2D6B-46D3-99CD-83ACF8A5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DBC-30DE-4018-A0C6-6C63585E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64C-9DB7-45DF-9D67-8B221F0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126-1A4E-4546-AA1A-4E9983C8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49B-6073-4218-B493-661C5B6F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604-7A11-4F7E-BC28-F4714DE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9E7-C75C-44C8-BEED-CA47273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419-02BB-4FEE-9EAA-54264A2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8A1-A2AC-4670-8818-FB87C4A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B67-8247-43C2-A59E-BBE2F4D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13D19-F1DE-4FBB-A747-8C77BDA14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