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32427"/>
        <c:axId val="20008126"/>
      </c:barChart>
      <c:catAx>
        <c:axId val="75732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8126"/>
        <c:crosses val="autoZero"/>
        <c:auto val="1"/>
        <c:lblAlgn val="ctr"/>
        <c:lblOffset val="100"/>
        <c:noMultiLvlLbl val="0"/>
      </c:catAx>
      <c:valAx>
        <c:axId val="20008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32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3FE-2C02-47A4-B660-D5987777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12F-83A4-4D80-B1A1-9F533B8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384-B17E-4075-85CC-4E0D26CD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32D-BEB2-47C9-B6C9-F200F7D3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E97-9912-4189-BCF2-789CACE9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1A2-5CD3-47B4-B942-2AB3580D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8B9-BF30-4706-98AB-F0D5B30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73C-55D0-46F8-A383-3A8F6B4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EC6-367D-471B-BEE6-3E9F1CD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D78-7AA4-4A46-B217-1185150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B1D-2925-407A-82AB-0BE714D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17A-7BB0-4F64-9D27-56EA486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692D2-F8B9-413C-AC1A-5CFD5310A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