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2702"/>
        <c:axId val="23729230"/>
      </c:barChart>
      <c:catAx>
        <c:axId val="1882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9230"/>
        <c:crosses val="autoZero"/>
        <c:auto val="1"/>
        <c:lblAlgn val="ctr"/>
        <c:lblOffset val="100"/>
        <c:noMultiLvlLbl val="0"/>
      </c:catAx>
      <c:valAx>
        <c:axId val="23729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908-DF6D-487D-9D15-44F9AEE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C86-91EC-4D9F-A3E1-ABAE5C7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739-7171-4C15-8073-FEEEDED1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554-2593-471D-9CB0-8F736FF7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816-7F5D-433F-A4F9-0900700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33A-AD3A-493E-A512-AA17C58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FEF-50F0-45D6-98BC-E0E3265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695-0D60-43FB-8580-B57C5ED5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D2F-B2A6-4F8D-9146-FB24505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413-4FE4-4800-8E6C-6C74D42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7BE-A450-45DB-AB77-4C79DD1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F68-5F10-42E3-A844-E76E279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9AAFD-C1C5-4F75-BBDC-BF6B25E31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