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54632"/>
        <c:axId val="47505969"/>
      </c:barChart>
      <c:catAx>
        <c:axId val="2585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05969"/>
        <c:crosses val="autoZero"/>
        <c:auto val="1"/>
        <c:lblAlgn val="ctr"/>
        <c:lblOffset val="100"/>
        <c:noMultiLvlLbl val="0"/>
      </c:catAx>
      <c:valAx>
        <c:axId val="47505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B42-18B9-400C-AFDA-1CA35940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CF-762F-49E8-B681-E898C08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491-236A-4E28-95AB-C392D11C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5AD-CE18-4676-847B-1B4F47DA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0C7-9EA7-4139-87C2-67E0D7A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B43-41A2-4313-8828-842E63A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275-EFF1-4C2C-959C-459B7C28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942-913A-4AA9-AA21-93A0F60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DAC-DBF4-4B3C-A285-E807745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532-AA27-4391-AB1C-02886553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83E-2B97-4360-A778-1AC1F90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726-342C-4039-86B1-22E2EE5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761E9-AE36-444D-BB81-D622C0767C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