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23744"/>
        <c:axId val="72902183"/>
      </c:barChart>
      <c:catAx>
        <c:axId val="33523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2183"/>
        <c:crosses val="autoZero"/>
        <c:auto val="1"/>
        <c:lblAlgn val="ctr"/>
        <c:lblOffset val="100"/>
        <c:noMultiLvlLbl val="0"/>
      </c:catAx>
      <c:valAx>
        <c:axId val="72902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23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E45-9CD6-4FE4-AA96-073B2D2B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07D-B5F6-4533-8A52-BE2BCEFB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0D4-6641-4A85-B8AB-62EDF423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472-265F-41FA-BE24-2BB2A948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407-BE1E-4E94-98CA-AF349E73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CDB-6FAB-4705-B96F-EE632B1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88F-2F39-4D2E-9CA9-9ED07639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CD1-FD0F-49D0-9C93-422DD0E7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623-41EA-4A67-AEAB-08553D78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9C0-5A6D-462D-8475-8AE565C4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309-725C-48B0-BF1D-A94A3D74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F02-7A64-4097-9652-4D099481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29C3B-3E76-45FF-BEDE-AF8B02869D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