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5700605"/>
        <c:axId val="72271613"/>
      </c:barChart>
      <c:catAx>
        <c:axId val="5570060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271613"/>
        <c:crosses val="autoZero"/>
        <c:auto val="1"/>
        <c:lblAlgn val="ctr"/>
        <c:lblOffset val="100"/>
        <c:noMultiLvlLbl val="0"/>
      </c:catAx>
      <c:valAx>
        <c:axId val="7227161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70060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A944C-F384-4461-B34A-21326E7C8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30354-0CD9-44C4-9E92-34C093595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7ABE9-92DC-4DBF-8B9B-FB683EC12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0A296-434C-4B3F-9BD9-0C8991683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33BF9-6B4A-4845-8A02-2EA3B7ED4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C667F-809B-44D9-86C7-F1F280DA7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34CC8-797E-402F-AEE1-99EBEA2C9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52E44-714D-4D2E-BC8A-828473836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19FA2-E3F1-4C98-82E2-0B09C2A4B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53C89-6536-4FC4-A222-15188C54F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F9042-EFCE-4B2F-AA1C-43A0E4A2D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1AB06-D1FE-4121-B821-613720098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16AA2E-C357-4A5A-87E8-C12DF62BDBA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