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57475"/>
        <c:axId val="99337255"/>
      </c:barChart>
      <c:catAx>
        <c:axId val="57757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37255"/>
        <c:crosses val="autoZero"/>
        <c:auto val="1"/>
        <c:lblAlgn val="ctr"/>
        <c:lblOffset val="100"/>
        <c:noMultiLvlLbl val="0"/>
      </c:catAx>
      <c:valAx>
        <c:axId val="99337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57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98C-206C-459A-AE1A-EE2B6520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CF0-A775-4561-A591-1861F1C8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517-16C6-46F6-A718-4D2C731B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5C1-1B2D-48DB-9012-287C949A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BCD-D66D-4ADA-9747-3AD52208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B9A-FF91-4961-8CD8-5B16987A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188-7D0F-4126-9331-5F897AE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FB6-48B0-4619-A6DA-7AB45CAC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17F9-F148-45C9-B2B6-29D298BC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974-BD37-4B7E-A467-3BA6D8F8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A49-3D3C-48A6-8BB7-AD5DEF8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D07-33E8-4AE2-9455-79353F19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2C825-D2A5-40BD-AE91-7F36355662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