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46041"/>
        <c:axId val="42628503"/>
      </c:barChart>
      <c:catAx>
        <c:axId val="55046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28503"/>
        <c:crosses val="autoZero"/>
        <c:auto val="1"/>
        <c:lblAlgn val="ctr"/>
        <c:lblOffset val="100"/>
        <c:noMultiLvlLbl val="0"/>
      </c:catAx>
      <c:valAx>
        <c:axId val="42628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6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C88-CE4E-4E30-9CB8-685DD591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F8F-9E7B-4CCA-A454-4D0F68B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C8A-1E7A-45D4-8177-7931AA66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C02-8716-45BC-AB52-2CBA340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586-DC5A-4E6B-BEFE-58D6B9E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5D9-A904-4D6D-9F77-EA8AA8A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785-7BFF-4ABF-9984-DECA478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3AE-1DE0-4DC8-B57A-51A5DD0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725-C9E3-4F8E-BDF8-72D7B7F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8C6-FC86-450E-BC2D-C72F6FB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33D-725E-4816-BE71-9E13A55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935-632E-400D-B6DA-945429C7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12D8B-FAA3-4E4D-9604-BB305CC06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