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46158"/>
        <c:axId val="73682916"/>
      </c:barChart>
      <c:catAx>
        <c:axId val="75946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82916"/>
        <c:crosses val="autoZero"/>
        <c:auto val="1"/>
        <c:lblAlgn val="ctr"/>
        <c:lblOffset val="100"/>
        <c:noMultiLvlLbl val="0"/>
      </c:catAx>
      <c:valAx>
        <c:axId val="73682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46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9C6-D99B-4733-8012-646C6A8E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F32-0F73-4BB4-AD3E-B8AC17FD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C12-48AF-4562-8D39-893A5EAF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4B6-15F3-44AE-AEAD-698863ED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ED0-E995-4229-BE3F-C18E47C0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A3F-7E1D-423F-95BB-ED79198F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048-8303-45C1-8C51-39776111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088-984A-4134-A613-7717FB9F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A21-4EB8-4BD4-BD6C-B4556A7C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6D6-A64E-4D71-9188-51016ABA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818-EA22-433C-AACF-ADBE724C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493-38D4-48B5-A6F7-DDB03158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0A0E6-2488-4102-BD90-4C8BCFF81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