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86722"/>
        <c:axId val="53493947"/>
      </c:barChart>
      <c:catAx>
        <c:axId val="88286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93947"/>
        <c:crosses val="autoZero"/>
        <c:auto val="1"/>
        <c:lblAlgn val="ctr"/>
        <c:lblOffset val="100"/>
        <c:noMultiLvlLbl val="0"/>
      </c:catAx>
      <c:valAx>
        <c:axId val="53493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86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46E-6C99-4D94-8424-A8719ED9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A76-3BCD-4A5A-B7E6-FCEF69C1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F16-5EE8-4AC0-B390-82848884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5D1-27F5-4DF1-9ADD-75D7DC12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E2D-6F6E-4B66-9C96-83CF2330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A50-3555-44FE-8A23-7C7AFB22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AFB-C80B-4DBD-920E-82EFD547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704-91E4-47FA-B19C-D42804AB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316-BADC-4C3B-9FA8-D1DB3619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5FE-D469-43A0-8ABC-F75AED4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687-D28A-4C2F-AB2C-5288C0CA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D32-B523-48B0-A8E4-DD19A4D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C0FD5-CE01-401C-9C61-C6E85CCF6A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