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36309"/>
        <c:axId val="5815103"/>
      </c:barChart>
      <c:catAx>
        <c:axId val="58363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5103"/>
        <c:crosses val="autoZero"/>
        <c:auto val="1"/>
        <c:lblAlgn val="ctr"/>
        <c:lblOffset val="100"/>
        <c:noMultiLvlLbl val="0"/>
      </c:catAx>
      <c:valAx>
        <c:axId val="58151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63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DE3C-361E-4E01-BA2F-24BCCDA5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9260-6EBD-4B27-80D5-402AAE83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0A60-6EAC-4660-AE34-DFD2ECC9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CD18-7F69-4541-AF6C-68E54229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3A50-4CF5-44DB-99F6-C2C7A6BF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81FC-5137-407D-A63C-A4820EF4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7B2-EB33-4BCA-BCCB-013A16CF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99D9-7E8B-42E2-8740-112188DC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040B-B6C7-4B1F-971A-09BC4E69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BCED-F73F-41A8-BDF3-78D20960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F10B-6C30-4904-B4B0-291EA0AD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ADBB-CFA5-488F-9CDC-E16D8376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030E1-D6A1-47AC-ACD2-C4B5033A00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