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99367"/>
        <c:axId val="15837559"/>
      </c:barChart>
      <c:catAx>
        <c:axId val="5019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7559"/>
        <c:crosses val="autoZero"/>
        <c:auto val="1"/>
        <c:lblAlgn val="ctr"/>
        <c:lblOffset val="100"/>
        <c:noMultiLvlLbl val="0"/>
      </c:catAx>
      <c:valAx>
        <c:axId val="15837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9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A90-182B-4455-A3A2-27877FCF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473-FA80-410D-BF63-0877610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936-7EE4-498D-94F1-0B2C9F3A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180-BA15-4CC1-B3D3-EBA383E3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A34-EFA4-4843-8F08-BFFA49ED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DDE-92C4-4014-B3E3-41DF5D8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F43-125B-402C-9781-0581B59B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C38-2DE6-4B2E-AD5B-5685AA1C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84B-D2CA-4F19-A1E5-0DA73DAA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D3D-C6AF-44CA-8B75-83DAA634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3DF-4D89-47F2-B460-57EB61C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C0B-C68F-4AAD-8A71-41D258D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B4772-6BC1-45B5-B9BA-849BAFF36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