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39720"/>
        <c:axId val="74128178"/>
      </c:barChart>
      <c:catAx>
        <c:axId val="86039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28178"/>
        <c:crosses val="autoZero"/>
        <c:auto val="1"/>
        <c:lblAlgn val="ctr"/>
        <c:lblOffset val="100"/>
        <c:noMultiLvlLbl val="0"/>
      </c:catAx>
      <c:valAx>
        <c:axId val="74128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39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49F-0036-41A8-BBCA-FC92A9BB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398-6785-459B-80A7-583ADF93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4C9-27DF-451E-B423-27911E7A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043-F313-486B-9E49-22ED7979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85E-FFC1-40A9-8D61-31D5389B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CC7-ED16-45A7-B51C-6D05C97E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4BE-6686-4A96-8BF0-94023FA4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028-9765-451D-B405-855BCE67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551-745E-4837-9EC8-FCB4BA85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A10-9CF9-4136-B04D-D95F08BC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3DE-2C3A-4729-A4E1-A9CEB4E8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7F5-B1D1-437F-A364-E93BA3A6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7D9A1-AE69-476C-A6A4-1049BDB513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